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EAC0-916A-4F63-91B8-B239FAF96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E2A6-BAAC-4919-B41F-1FC70F232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4DD1-EE6C-41B8-B5DA-8FAE09121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F6C7-A78B-4999-B520-C0BA4742D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036D2-7016-4EFB-9797-2BF51EA6F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B8F4E-19AB-4BD1-8664-A7B43868D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18673-7223-49EB-86C8-98D59A124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1B483-35F6-4DCD-B22D-63347DBED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BBC3C-FF9D-4A69-9587-4D8246E8E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2779B-4B99-4AA9-ADD1-C08BF1B79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ED014-55A3-4CA8-9F3C-25B7A883A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656A-DC64-4897-A094-6BDEBD4AD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0779C-C2DD-4022-BA2B-2B8DBBB1B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BE37B-6161-4E29-95AA-D11CC07E1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17942-40CF-46E6-A1BE-B403234B8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81059-3CDB-4504-B707-7D55ABFA6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F0C89-DA9B-4D8B-B90E-6FD2FAD3F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358A-1890-415D-A74B-380C2BF21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6983-C4F1-4CB8-B299-8737D3B0A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08D1-8D79-43FF-925A-559253780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F079-35E2-4C51-A9A7-D6EDDCA48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AB22-1A6D-4956-AC13-43606FDAC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A5B7-0101-47EB-B29D-402155DB4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BA33-9A78-4D3D-BB44-6548F915A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c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EAD3D-5B8B-4C1A-83B0-7561B655BFE7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c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330C5-94FC-49B4-9CFF-094A1144D6A6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9640" y="338040"/>
            <a:ext cx="633096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Calibri"/>
              </a:rPr>
              <a:t>Гражданская оборона</a:t>
            </a:r>
            <a:endParaRPr b="0" lang="en-US" sz="6600" spc="-1" strike="noStrike">
              <a:solidFill>
                <a:srgbClr val="800000"/>
              </a:solidFill>
              <a:latin typeface="Calibri"/>
            </a:endParaRPr>
          </a:p>
        </p:txBody>
      </p:sp>
      <p:pic>
        <p:nvPicPr>
          <p:cNvPr id="83" name="Picture 5" descr="m_ch_s"/>
          <p:cNvPicPr/>
          <p:nvPr/>
        </p:nvPicPr>
        <p:blipFill>
          <a:blip r:embed="rId1"/>
          <a:stretch/>
        </p:blipFill>
        <p:spPr>
          <a:xfrm>
            <a:off x="7236000" y="208080"/>
            <a:ext cx="1199880" cy="17287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https://birulevo-zapadnoe.mos.ru/upload/medialibrary/5d0/grazhdanskaya-oborona.iz-istorii.jpg"/>
          <p:cNvPicPr/>
          <p:nvPr/>
        </p:nvPicPr>
        <p:blipFill>
          <a:blip r:embed="rId2"/>
          <a:stretch/>
        </p:blipFill>
        <p:spPr>
          <a:xfrm>
            <a:off x="826920" y="2205000"/>
            <a:ext cx="748188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456840" y="1052640"/>
            <a:ext cx="843588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Что означает звучание сирен, предупреждающих о ЧС?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А) «Воздушная тревога!»; 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Б) «Внимание всем!»; 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) Начало эвакуации.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твет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600" spc="-1" strike="noStrike">
                <a:solidFill>
                  <a:srgbClr val="000000"/>
                </a:solidFill>
                <a:latin typeface="Calibri"/>
              </a:rPr>
              <a:t>Б</a:t>
            </a:r>
            <a:endParaRPr b="0" lang="en-US" sz="166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6. Куда необходимо следовать при объявлении эвакуации? </a:t>
            </a:r>
            <a:endParaRPr b="0" lang="en-US" sz="3600" spc="-1" strike="noStrike">
              <a:solidFill>
                <a:srgbClr val="800000"/>
              </a:solidFill>
              <a:latin typeface="Calibri"/>
            </a:endParaRPr>
          </a:p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А) в ЖЭК; </a:t>
            </a:r>
            <a:endParaRPr b="0" lang="en-US" sz="3600" spc="-1" strike="noStrike">
              <a:solidFill>
                <a:srgbClr val="800000"/>
              </a:solidFill>
              <a:latin typeface="Calibri"/>
            </a:endParaRPr>
          </a:p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Б) в школу; </a:t>
            </a:r>
            <a:endParaRPr b="0" lang="en-US" sz="3600" spc="-1" strike="noStrike">
              <a:solidFill>
                <a:srgbClr val="800000"/>
              </a:solidFill>
              <a:latin typeface="Calibri"/>
            </a:endParaRPr>
          </a:p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) на сборно-эвакуационный пункт.</a:t>
            </a:r>
            <a:endParaRPr b="0" lang="en-US" sz="36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твет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6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166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7. Поражающими факторами ядерного взрыва являются: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) избыточное давление в эпицентре ядерного взрыва; облако, зараженное отравляющими веществами и движущееся по направлению ветра; изменение состава атмосферного воздуха;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) ударная волна, световое излучение, проникающая радиация, радиоактивное заражение и электромагнитный импульс;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) резкое понижение температуры окружающей среды, понижение концентрации кислорода в воздухе, самовозгорание веществ и материалов в зоне взрыва, резкое увеличение силы тока в электроприборах и электрооборудовании.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твет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600" spc="-1" strike="noStrike">
                <a:solidFill>
                  <a:srgbClr val="000000"/>
                </a:solidFill>
                <a:latin typeface="Calibri"/>
              </a:rPr>
              <a:t>Б</a:t>
            </a:r>
            <a:endParaRPr b="0" lang="en-US" sz="166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250560" y="115560"/>
            <a:ext cx="8893080" cy="601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8. К действиям населения при оповещении об аварии на радиационно-опасном объекте относятся: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)</a:t>
            </a:r>
            <a:r>
              <a:rPr b="0" lang="ru-RU" sz="2800" spc="-1" strike="noStrike">
                <a:solidFill>
                  <a:srgbClr val="8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ключите радиоприемник, телевизор, прослушайте сообщение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)</a:t>
            </a:r>
            <a:r>
              <a:rPr b="0" lang="ru-RU" sz="2800" spc="-1" strike="noStrike">
                <a:solidFill>
                  <a:srgbClr val="8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ходясь на улице, немедленно защитите органы дыхания и поспешите в укрытие.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) Для защиты органов дыхания используйте респиратор, ватно-марлевую повязку (ВМП) или подручные изделия из ткани, смоченные водой.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) Закройте окна и двери, загерметизируйте помещение.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) Проведите йодную профилактику. 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) Защитите продукты питания; сделайте запас воды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ж) Ждите информацию органов ГОЧС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) Все вышеперечисленные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твет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600" spc="-1" strike="noStrike">
                <a:solidFill>
                  <a:srgbClr val="000000"/>
                </a:solidFill>
                <a:latin typeface="Calibri"/>
              </a:rPr>
              <a:t>З</a:t>
            </a:r>
            <a:endParaRPr b="0" lang="en-US" sz="166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394920" y="259920"/>
            <a:ext cx="84978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9. При движении по зараженной радиоактивными веществами местности необходимо: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А) находиться в средствах индивидуальной защиты органов дыхания и кожи;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Б) без надобности не садиться и не прикасаться к местным предметам;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) избегать движения по высокой траве и кустарнику;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Г) не принимать пищу, не пить, не курить;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Д) не поднимать пыль и не ставить вещи на землю.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Е) Всё вышеперечисленное</a:t>
            </a:r>
            <a:endParaRPr b="0" lang="en-US" sz="30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твет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600" spc="-1" strike="noStrike">
                <a:solidFill>
                  <a:srgbClr val="000000"/>
                </a:solidFill>
                <a:latin typeface="Calibri"/>
              </a:rPr>
              <a:t>Е</a:t>
            </a:r>
            <a:endParaRPr b="0" lang="en-US" sz="166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395280" y="0"/>
            <a:ext cx="835344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1. Гражданская оборона – это: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) система мероприятий по прогнозированию, предотвращению и ликвидации чрезвычайных ситуаций в военное время;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) система обеспечения постоянной готовности органов государственного управления для быстрых и эффективных действий по организации первоочередного жизнеобеспечения населения при ведении военных действий на территории Российской Федерации;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) система мероприятий по подготовке к защите и по защите населения, материальных и культурных ценностей на территории Российской Федерации от опасностей, возникающих при ведении военных действий или вследствие этих действий.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0. Частичная санитарная обработка включает в себя: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) снять верхнюю одежду, встать спиной к ветру и тщательно ее выбить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) обмыть водой и обтереть ветошью обувь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) снять противогаз, вымыть лицо, прополоскать рот и горло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) обмыть водой открытые участки тела и лицевую часть противогаза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) снять всю одежду и отправить в стирку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Е) принять ванну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твет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213372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34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800" spc="-1" strike="noStrike">
                <a:solidFill>
                  <a:srgbClr val="000000"/>
                </a:solidFill>
                <a:latin typeface="Calibri"/>
              </a:rPr>
              <a:t>А; Б; В; Г</a:t>
            </a:r>
            <a:endParaRPr b="0" lang="en-US" sz="138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Calibri"/>
              </a:rPr>
              <a:t>Первая помощь</a:t>
            </a:r>
            <a:endParaRPr b="0" lang="en-US" sz="7200" spc="-1" strike="noStrike">
              <a:solidFill>
                <a:srgbClr val="800000"/>
              </a:solidFill>
              <a:latin typeface="Calibri"/>
            </a:endParaRPr>
          </a:p>
        </p:txBody>
      </p:sp>
      <p:pic>
        <p:nvPicPr>
          <p:cNvPr id="116" name="Picture 2" descr="https://avatars.mds.yandex.net/get-zen_doc/53963/pub_5ab32893bcf1bcb6689dc57e_5ab32b6f9e29a29d46437756/scale_1200"/>
          <p:cNvPicPr/>
          <p:nvPr/>
        </p:nvPicPr>
        <p:blipFill>
          <a:blip r:embed="rId1"/>
          <a:stretch/>
        </p:blipFill>
        <p:spPr>
          <a:xfrm>
            <a:off x="1476360" y="1557360"/>
            <a:ext cx="6438960" cy="48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68000" y="333000"/>
            <a:ext cx="83516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1.Вы обнаружили у пострадавшего из ноги пульсирующими струйками выделяется кровь алого цвета. Какое кровотечение?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А) венозное; 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Б) капиллярное; 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) артериальное.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indefinite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7" dur="indefinite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" dur="indefinite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indefinite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" dur="indefinite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" dur="indefinite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240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2. 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Как вы наложите жгут при кровотечении?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А) Ниже раны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Б) Выше раны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) На саму рану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indefinite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1" dur="indefinite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" dur="indefinite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3240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3. 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На какое время можно накладывать жгут при остановке кровотечения летом?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А) на 1 час; 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Б) на 1,5-2 часа; 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) на 3 часа.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indefinite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9" dur="indefinite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" dur="indefinite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394920" y="404640"/>
            <a:ext cx="828036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4. Как вы окажете помощь пострадавшему при переломе руки?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А) наложите тугую повязку;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Б) поможете пострадавшему добраться до больницы;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) к поврежденной конечности закрепите шину (палку, дощечку), позвоните 03.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indefinite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" dur="indefinite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8" dur="indefinite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5. Сколько вдуваний в минуту вы будете делать пострадавшему при искусственном дыхании?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А) 5-10 вдуваний; 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Б) 2; 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) 3-4.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indefinite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45" dur="indefinite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46" dur="indefinite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9528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6. Сколько надавливаний вы будете делать пострадавшему при непрямом массаже сердца?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А) 50; 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Б) 30; 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) 60.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indefinite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53" dur="indefinite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54" dur="indefinite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6836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7. Какие средства защиты следует применять от поражения отравляющими веществами?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А) защитный костюм; 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Б) противогаз; 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) марлевую повязку</a:t>
            </a:r>
            <a:endParaRPr b="0" lang="en-US" sz="40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твет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764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ражданская оборона - система мероприятий по подготовке к защите и по защите населения, материальных и культурных ценностей на территории Российской Федерации от опасностей, возникающих при военных конфликтах или вследствие этих конфликтов, а также при чрезвычайных ситуациях природного и техногенного характера (в ред.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Федерального закона от 29.06.2015 N 171-ФЗ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Ответ</a:t>
            </a:r>
            <a:endParaRPr b="0" lang="en-US" sz="5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600" spc="-1" strike="noStrike">
                <a:solidFill>
                  <a:srgbClr val="000000"/>
                </a:solidFill>
                <a:latin typeface="Calibri"/>
              </a:rPr>
              <a:t>Б</a:t>
            </a:r>
            <a:endParaRPr b="0" lang="en-US" sz="166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68360" y="260280"/>
            <a:ext cx="820728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8. Как правильно оказать помощь при кровотечении из носа:        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)        сказать пострадавшему, чтобы он стоял,  запрокинув голову назад, и не шевелился;        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)        усадить пострадавшего, наклонив его туловище перед, положить на спинку носа холод, плотно прижать крылья носа к перегородке на 5—10 минут, смочить  кусочки ваты раствором перекиси водорода и вести их в носовые ходы;  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)        усадить пострадавшего, наклонив его туловище вперед, смочить кусочки ваты раствором перекиси водорода и ввести их в носовые ходы, измерить температуру и дать обезболивающее.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0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61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62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63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Ответ</a:t>
            </a:r>
            <a:endParaRPr b="0" lang="en-US" sz="5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600" spc="-1" strike="noStrike">
                <a:solidFill>
                  <a:srgbClr val="000000"/>
                </a:solidFill>
                <a:latin typeface="Calibri"/>
              </a:rPr>
              <a:t>Б</a:t>
            </a:r>
            <a:endParaRPr b="0" lang="en-US" sz="166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68000" y="764640"/>
            <a:ext cx="808524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9. При химическом ожоге кислотой необходимо прежде всего: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)        доставить пострадавшего в медицинское учреждение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)        дать обезболивающе средство и промыть место ожога слабым раствором питьевой соды;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)        удалить с человека одежду, пропитанную кислотой, и промыть кожу проточной водой;.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Ответ</a:t>
            </a:r>
            <a:endParaRPr b="0" lang="en-US" sz="5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9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199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395280" y="333000"/>
            <a:ext cx="829152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Calibri"/>
              </a:rPr>
              <a:t>10. Укажите правильную последовательность при оказании ПМП при ожогах:</a:t>
            </a:r>
            <a:endParaRPr b="0" lang="en-US" sz="34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А) дать таблетку;</a:t>
            </a:r>
            <a:endParaRPr b="0" lang="en-US" sz="34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Б) при горении одежды, накрыть пострадавшего плотной тканью;</a:t>
            </a:r>
            <a:endParaRPr b="0" lang="en-US" sz="34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В) положить холод;</a:t>
            </a:r>
            <a:endParaRPr b="0" lang="en-US" sz="34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Г) дать выпить теплый чай, слабый кофе или слегка подсоленную воду;</a:t>
            </a:r>
            <a:endParaRPr b="0" lang="en-US" sz="34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Д) наложить стерильную повязку;</a:t>
            </a:r>
            <a:endParaRPr b="0" lang="en-US" sz="34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Е) транспортировать в лечебное заведение.</a:t>
            </a:r>
            <a:endParaRPr b="0" lang="en-US" sz="34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твет 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Calibri"/>
              </a:rPr>
              <a:t>Б; А; Д; Г; В; Е.</a:t>
            </a:r>
            <a:endParaRPr b="0" lang="en-US" sz="80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324000" y="-360"/>
            <a:ext cx="864072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2. Из приведенных задач выберите те, которые являются задачами в области ГО: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) эвакуация населения, материальных и культурных ценностей в безопасные районы;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) эвакуация раненных с места военных действий в безопасные районы;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) борьба с пожарами, возникающими при ведении военных действий;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) обеззараживание населения, техники, зданий и территорий;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) строительство фортификационных сооружений в военное время;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) восстановление функционирования необходимых коммунальных служб в военное время;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ж) проведение мероприятий по организации медицинского обслуживания населения;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) проведение мероприятий по светомаскировке.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твет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500" spc="-1" strike="noStrike">
                <a:solidFill>
                  <a:srgbClr val="000000"/>
                </a:solidFill>
                <a:latin typeface="Calibri"/>
              </a:rPr>
              <a:t>А; В; Г; Е; З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8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324000" y="115920"/>
            <a:ext cx="8496000" cy="67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3. Ведение ГО на территории РФ или отдельных ее местностях начинается: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) с началом объявления о мобилизации взрослого населения;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) с момента объявления или ведения Президентом Российской Федерации чрезвычайного положения на территории Российской Федерации или отдельных ее местностях.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) с момента объявления состояния войны, фактического начала военных действий или ведения Президентом Российской Федерации военного положения на территории Российской Федерации и в отдельных ее местностях.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твет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6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166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395280" y="115560"/>
            <a:ext cx="8229600" cy="579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4. Руководителем гражданской обороны образовательного учреждения является:</a:t>
            </a:r>
            <a:endParaRPr b="0" lang="en-US" sz="36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а) специально уполномоченный представитель органов местного самоуправления;</a:t>
            </a:r>
            <a:endParaRPr b="0" lang="en-US" sz="36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б) руководитель общеобразовательного учреждения;</a:t>
            </a:r>
            <a:endParaRPr b="0" lang="en-US" sz="36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) один из заместителей руководителя общеобразовательного учреждения, прошедший специальную подготовку.</a:t>
            </a:r>
            <a:endParaRPr b="0" lang="en-US" sz="3600" spc="-1" strike="noStrike">
              <a:solidFill>
                <a:srgbClr val="800000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твет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600" spc="-1" strike="noStrike">
                <a:solidFill>
                  <a:srgbClr val="000000"/>
                </a:solidFill>
                <a:latin typeface="Calibri"/>
              </a:rPr>
              <a:t>Б</a:t>
            </a:r>
            <a:endParaRPr b="0" lang="en-US" sz="166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30T13:22:10Z</dcterms:created>
  <dc:creator>РиЮ</dc:creator>
  <dc:description/>
  <dc:language>en-US</dc:language>
  <cp:lastModifiedBy>Андрей</cp:lastModifiedBy>
  <dcterms:modified xsi:type="dcterms:W3CDTF">2020-03-15T14:13:14Z</dcterms:modified>
  <cp:revision>36</cp:revision>
  <dc:subject/>
  <dc:title>Слайд 1</dc:title>
</cp:coreProperties>
</file>